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58E-0DAE-4599-AB9A-7FE4604B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A4F-1A78-44BA-B11D-4D3D603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5B4-22FE-4029-8ACD-12FAC519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21B-5539-4870-BFB3-33B4156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382-6BCA-45AA-990F-AABA298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E7D-0F5B-43A8-B1B7-99D9530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0E0-E01C-4CB3-8376-EB33E83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45B-1BD9-4353-AD3C-D238778C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8A2-D72F-4CC1-A307-F7E307D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948-1C1D-497D-BA56-5DB0E2B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F48-6991-4A17-A62E-9158EF7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13F-38C6-4301-B607-A090654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1B46C-02A8-4C3B-964C-D97BB424B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12"/>
          <p:cNvSpPr/>
          <p:nvPr/>
        </p:nvSpPr>
        <p:spPr>
          <a:xfrm rot="10800000">
            <a:off x="2552760" y="364680"/>
            <a:ext cx="3884400" cy="1193760"/>
          </a:xfrm>
          <a:custGeom>
            <a:avLst/>
            <a:gdLst/>
            <a:ahLst/>
            <a:rect l="l" t="t" r="r" b="b"/>
            <a:pathLst>
              <a:path w="3884613" h="1193800">
                <a:moveTo>
                  <a:pt x="198971" y="0"/>
                </a:moveTo>
                <a:lnTo>
                  <a:pt x="3685642" y="0"/>
                </a:lnTo>
                <a:cubicBezTo>
                  <a:pt x="3795531" y="0"/>
                  <a:pt x="3884613" y="89082"/>
                  <a:pt x="3884613" y="198971"/>
                </a:cubicBezTo>
                <a:lnTo>
                  <a:pt x="3884613" y="803929"/>
                </a:lnTo>
                <a:cubicBezTo>
                  <a:pt x="3884613" y="1019249"/>
                  <a:pt x="3710062" y="1193800"/>
                  <a:pt x="3494742" y="1193800"/>
                </a:cubicBezTo>
                <a:lnTo>
                  <a:pt x="389871" y="1193800"/>
                </a:lnTo>
                <a:cubicBezTo>
                  <a:pt x="174551" y="1193800"/>
                  <a:pt x="0" y="1019249"/>
                  <a:pt x="0" y="803929"/>
                </a:cubicBezTo>
                <a:lnTo>
                  <a:pt x="0" y="198971"/>
                </a:lnTo>
                <a:cubicBezTo>
                  <a:pt x="0" y="89082"/>
                  <a:pt x="89082" y="0"/>
                  <a:pt x="198971" y="0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lternate Process 5"/>
          <p:cNvSpPr/>
          <p:nvPr/>
        </p:nvSpPr>
        <p:spPr>
          <a:xfrm>
            <a:off x="1790640" y="1598760"/>
            <a:ext cx="6168960" cy="255096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-11-2017:   EE Final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 - 25 Jan 2018: TURNITIN up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-01-2018: Final Sub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-22 Feb 2018: VIVA VOCE +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1-03-2018: Uploading to IB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46520" y="9986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EE GR.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2941560" y="365040"/>
            <a:ext cx="34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MPORTANT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Screen Shot 2017-10-25 at 3.57.50 AM.png"/>
          <p:cNvPicPr/>
          <p:nvPr/>
        </p:nvPicPr>
        <p:blipFill>
          <a:blip r:embed="rId1"/>
          <a:stretch/>
        </p:blipFill>
        <p:spPr>
          <a:xfrm>
            <a:off x="3376440" y="4241880"/>
            <a:ext cx="2235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5:53:27Z</dcterms:created>
  <dc:creator>Catherine  de Levay</dc:creator>
  <dc:description/>
  <dc:language>en-US</dc:language>
  <cp:lastModifiedBy>Catherine  de Levay</cp:lastModifiedBy>
  <dcterms:modified xsi:type="dcterms:W3CDTF">2017-10-25T09:58:50Z</dcterms:modified>
  <cp:revision>4</cp:revision>
  <dc:subject/>
  <dc:title>PowerPoint Presentation</dc:title>
</cp:coreProperties>
</file>