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531-330A-4B98-8E07-C500358A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228-D927-4236-AC04-41B0EA44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88C-54BA-4952-B25B-33AA014B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D62-359C-4D35-898C-989E3925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3D8-8695-4D17-96E6-7B64BC6B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7E1-3C28-4EB2-A4A2-9DEF3ADE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061-2356-4FAB-9394-FACF6343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BB0-5A55-4BAA-A589-BE750B41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79D-F3B7-4444-BB0A-D42D68D1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3AB-8675-476B-971A-8248DB2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C0B-36B4-42CE-A108-02AF6B3F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0A9-4EB9-454E-93F3-A132A62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85637-1E2A-4AA6-863B-B80ABA29A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 Same Side Corner Rectangle 12"/>
          <p:cNvSpPr/>
          <p:nvPr/>
        </p:nvSpPr>
        <p:spPr>
          <a:xfrm rot="10800000">
            <a:off x="2552760" y="364680"/>
            <a:ext cx="3884400" cy="1193760"/>
          </a:xfrm>
          <a:custGeom>
            <a:avLst/>
            <a:gdLst/>
            <a:ahLst/>
            <a:rect l="l" t="t" r="r" b="b"/>
            <a:pathLst>
              <a:path w="3884613" h="1193800">
                <a:moveTo>
                  <a:pt x="198971" y="0"/>
                </a:moveTo>
                <a:lnTo>
                  <a:pt x="3685642" y="0"/>
                </a:lnTo>
                <a:cubicBezTo>
                  <a:pt x="3795531" y="0"/>
                  <a:pt x="3884613" y="89082"/>
                  <a:pt x="3884613" y="198971"/>
                </a:cubicBezTo>
                <a:lnTo>
                  <a:pt x="3884613" y="803929"/>
                </a:lnTo>
                <a:cubicBezTo>
                  <a:pt x="3884613" y="1019249"/>
                  <a:pt x="3710062" y="1193800"/>
                  <a:pt x="3494742" y="1193800"/>
                </a:cubicBezTo>
                <a:lnTo>
                  <a:pt x="389871" y="1193800"/>
                </a:lnTo>
                <a:cubicBezTo>
                  <a:pt x="174551" y="1193800"/>
                  <a:pt x="0" y="1019249"/>
                  <a:pt x="0" y="803929"/>
                </a:cubicBezTo>
                <a:lnTo>
                  <a:pt x="0" y="198971"/>
                </a:lnTo>
                <a:cubicBezTo>
                  <a:pt x="0" y="89082"/>
                  <a:pt x="89082" y="0"/>
                  <a:pt x="198971" y="0"/>
                </a:cubicBezTo>
                <a:close/>
              </a:path>
            </a:pathLst>
          </a:custGeom>
          <a:solidFill>
            <a:srgbClr val="00808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lternate Process 5"/>
          <p:cNvSpPr/>
          <p:nvPr/>
        </p:nvSpPr>
        <p:spPr>
          <a:xfrm>
            <a:off x="1790640" y="1598760"/>
            <a:ext cx="6168960" cy="255096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-11-2017:   EE Final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 - 25 Jan 2018: TURNITIN up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-01-2018: Final Sub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-22 Feb 2018: VIVA VOCE +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f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1-03-2018: Uploading to IB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746520" y="99864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EE GR.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2941560" y="365040"/>
            <a:ext cx="34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MPORTANT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Screen Shot 2017-10-25 at 3.57.50 AM.png"/>
          <p:cNvPicPr/>
          <p:nvPr/>
        </p:nvPicPr>
        <p:blipFill>
          <a:blip r:embed="rId1"/>
          <a:stretch/>
        </p:blipFill>
        <p:spPr>
          <a:xfrm>
            <a:off x="3376440" y="4241880"/>
            <a:ext cx="22352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5:53:27Z</dcterms:created>
  <dc:creator>Catherine  de Levay</dc:creator>
  <dc:description/>
  <dc:language>en-US</dc:language>
  <cp:lastModifiedBy>Catherine  de Levay</cp:lastModifiedBy>
  <dcterms:modified xsi:type="dcterms:W3CDTF">2017-10-25T09:58:50Z</dcterms:modified>
  <cp:revision>4</cp:revision>
  <dc:subject/>
  <dc:title>PowerPoint Presentation</dc:title>
</cp:coreProperties>
</file>