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BE6-8575-426A-ADE0-C81C0C1B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DC2-E91B-4D4D-A74C-0A324AB9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479-192F-450D-AFEF-4275A321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758-F617-4103-A8E9-98991CC4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80A-05A1-47E7-9729-E24F1BCC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F81-88FC-4306-9159-7919FE7E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D67-4EDE-4AC9-83D9-B0756D5A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933-3F5E-43AF-91FA-5FBCC1B3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604-192E-40FF-A034-E9EDD08D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96E-CCF2-4B52-8865-2681E8DB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434-A0D2-4D6A-9383-3CDD5B0E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83F-ED8E-40B2-8AD9-8F59D1B4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01943-2427-4232-9D74-02F61D3E9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 Same Side Corner Rectangle 12"/>
          <p:cNvSpPr/>
          <p:nvPr/>
        </p:nvSpPr>
        <p:spPr>
          <a:xfrm rot="10800000">
            <a:off x="2552760" y="364680"/>
            <a:ext cx="3884400" cy="1193760"/>
          </a:xfrm>
          <a:custGeom>
            <a:avLst/>
            <a:gdLst/>
            <a:ahLst/>
            <a:rect l="l" t="t" r="r" b="b"/>
            <a:pathLst>
              <a:path w="3884613" h="1193800">
                <a:moveTo>
                  <a:pt x="198971" y="0"/>
                </a:moveTo>
                <a:lnTo>
                  <a:pt x="3685642" y="0"/>
                </a:lnTo>
                <a:cubicBezTo>
                  <a:pt x="3795531" y="0"/>
                  <a:pt x="3884613" y="89082"/>
                  <a:pt x="3884613" y="198971"/>
                </a:cubicBezTo>
                <a:lnTo>
                  <a:pt x="3884613" y="803929"/>
                </a:lnTo>
                <a:cubicBezTo>
                  <a:pt x="3884613" y="1019249"/>
                  <a:pt x="3710062" y="1193800"/>
                  <a:pt x="3494742" y="1193800"/>
                </a:cubicBezTo>
                <a:lnTo>
                  <a:pt x="389871" y="1193800"/>
                </a:lnTo>
                <a:cubicBezTo>
                  <a:pt x="174551" y="1193800"/>
                  <a:pt x="0" y="1019249"/>
                  <a:pt x="0" y="803929"/>
                </a:cubicBezTo>
                <a:lnTo>
                  <a:pt x="0" y="198971"/>
                </a:lnTo>
                <a:cubicBezTo>
                  <a:pt x="0" y="89082"/>
                  <a:pt x="89082" y="0"/>
                  <a:pt x="198971" y="0"/>
                </a:cubicBezTo>
                <a:close/>
              </a:path>
            </a:pathLst>
          </a:custGeom>
          <a:solidFill>
            <a:srgbClr val="00808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lternate Process 5"/>
          <p:cNvSpPr/>
          <p:nvPr/>
        </p:nvSpPr>
        <p:spPr>
          <a:xfrm>
            <a:off x="1790640" y="1598760"/>
            <a:ext cx="6168960" cy="255096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-11-2017:   EE Final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 - 25 Jan 2018: TURNITIN up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-01-2018: Final Sub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-22 Feb 2018: VIVA VOCE +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Ref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01-03-2018: Uploading to IB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746520" y="99864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EE GR. 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2941560" y="365040"/>
            <a:ext cx="34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MPORTANT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Screen Shot 2017-10-25 at 3.57.50 AM.png"/>
          <p:cNvPicPr/>
          <p:nvPr/>
        </p:nvPicPr>
        <p:blipFill>
          <a:blip r:embed="rId1"/>
          <a:stretch/>
        </p:blipFill>
        <p:spPr>
          <a:xfrm>
            <a:off x="3376440" y="4241880"/>
            <a:ext cx="223524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5:53:27Z</dcterms:created>
  <dc:creator>Catherine  de Levay</dc:creator>
  <dc:description/>
  <dc:language>en-US</dc:language>
  <cp:lastModifiedBy>Catherine  de Levay</cp:lastModifiedBy>
  <dcterms:modified xsi:type="dcterms:W3CDTF">2017-10-25T09:58:50Z</dcterms:modified>
  <cp:revision>4</cp:revision>
  <dc:subject/>
  <dc:title>PowerPoint Presentation</dc:title>
</cp:coreProperties>
</file>