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2DDF-EEB2-4319-B5FE-B560C4FE4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DC45-CDEF-4C49-8E2E-253ADBDD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F94C-2C88-4097-923A-372EC10DE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9BC6-1A87-42DD-A558-7DF2B3CE2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6DDD-DE5B-48C1-8BA7-36246205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FF48-0D27-434B-A1F7-24C95766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41E7-0EBD-4A78-B36D-0175A96D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EFDB-C7B2-472B-AC60-259E700E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441C-B0B2-4C6E-B839-355543CF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4FA4-DCB2-4C1C-B105-C64DE99E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8489-1F69-43B0-B724-A7EEFE6B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CAB9-44C6-48E7-9563-C1FBD006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DB67DD-51F3-449D-8046-FFD33D2FB3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 Same Side Corner Rectangle 12"/>
          <p:cNvSpPr/>
          <p:nvPr/>
        </p:nvSpPr>
        <p:spPr>
          <a:xfrm rot="10800000">
            <a:off x="2552760" y="364680"/>
            <a:ext cx="3884400" cy="1193760"/>
          </a:xfrm>
          <a:custGeom>
            <a:avLst/>
            <a:gdLst/>
            <a:ahLst/>
            <a:rect l="l" t="t" r="r" b="b"/>
            <a:pathLst>
              <a:path w="3884613" h="1193800">
                <a:moveTo>
                  <a:pt x="198971" y="0"/>
                </a:moveTo>
                <a:lnTo>
                  <a:pt x="3685642" y="0"/>
                </a:lnTo>
                <a:cubicBezTo>
                  <a:pt x="3795531" y="0"/>
                  <a:pt x="3884613" y="89082"/>
                  <a:pt x="3884613" y="198971"/>
                </a:cubicBezTo>
                <a:lnTo>
                  <a:pt x="3884613" y="803929"/>
                </a:lnTo>
                <a:cubicBezTo>
                  <a:pt x="3884613" y="1019249"/>
                  <a:pt x="3710062" y="1193800"/>
                  <a:pt x="3494742" y="1193800"/>
                </a:cubicBezTo>
                <a:lnTo>
                  <a:pt x="389871" y="1193800"/>
                </a:lnTo>
                <a:cubicBezTo>
                  <a:pt x="174551" y="1193800"/>
                  <a:pt x="0" y="1019249"/>
                  <a:pt x="0" y="803929"/>
                </a:cubicBezTo>
                <a:lnTo>
                  <a:pt x="0" y="198971"/>
                </a:lnTo>
                <a:cubicBezTo>
                  <a:pt x="0" y="89082"/>
                  <a:pt x="89082" y="0"/>
                  <a:pt x="198971" y="0"/>
                </a:cubicBezTo>
                <a:close/>
              </a:path>
            </a:pathLst>
          </a:custGeom>
          <a:solidFill>
            <a:srgbClr val="008080"/>
          </a:soli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Alternate Process 5"/>
          <p:cNvSpPr/>
          <p:nvPr/>
        </p:nvSpPr>
        <p:spPr>
          <a:xfrm>
            <a:off x="1790640" y="1598760"/>
            <a:ext cx="6168960" cy="2550960"/>
          </a:xfrm>
          <a:prstGeom prst="flowChartAlternateProcess">
            <a:avLst/>
          </a:prstGeom>
          <a:solidFill>
            <a:srgbClr val="00008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9-11-2017:   EE Final Draf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1 - 25 Jan 2018: TURNITIN uplo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8-01-2018: Final Submi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8-22 Feb 2018: VIVA VOCE +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Ref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01-03-2018: Uploading to IB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3746520" y="998640"/>
            <a:ext cx="210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nard MT Condensed"/>
                <a:ea typeface="Bernard MT Condensed"/>
              </a:rPr>
              <a:t>EE GR. 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11"/>
          <p:cNvSpPr/>
          <p:nvPr/>
        </p:nvSpPr>
        <p:spPr>
          <a:xfrm>
            <a:off x="2941560" y="365040"/>
            <a:ext cx="34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  <a:ea typeface="Bernard MT Condensed"/>
              </a:rPr>
              <a:t>IMPORTANT D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6" descr="Screen Shot 2017-10-25 at 3.57.50 AM.png"/>
          <p:cNvPicPr/>
          <p:nvPr/>
        </p:nvPicPr>
        <p:blipFill>
          <a:blip r:embed="rId1"/>
          <a:stretch/>
        </p:blipFill>
        <p:spPr>
          <a:xfrm>
            <a:off x="3376440" y="4241880"/>
            <a:ext cx="223524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5T05:53:27Z</dcterms:created>
  <dc:creator>Catherine  de Levay</dc:creator>
  <dc:description/>
  <dc:language>en-US</dc:language>
  <cp:lastModifiedBy>Catherine  de Levay</cp:lastModifiedBy>
  <dcterms:modified xsi:type="dcterms:W3CDTF">2017-10-25T09:58:50Z</dcterms:modified>
  <cp:revision>4</cp:revision>
  <dc:subject/>
  <dc:title>PowerPoint Presentation</dc:title>
</cp:coreProperties>
</file>