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A7B-08E3-4DE4-B8AD-BCF4A8CC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601-9665-4271-9954-8E92358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A09-383E-4F36-93DF-87D65B77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9A9-6FBE-4CED-90FD-20631139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7ED-FB63-409D-A616-602A25C4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999-9603-494F-BC84-2BCD0E0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305-2BEC-419D-9F75-669A1B1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261-C33D-4134-90E9-43306D47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B3F-C6F3-4875-912E-E8DC3FC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5DE-1996-4285-AE37-84B0A10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EDE-6C20-4D29-B12C-E48A3C9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DBC-27A3-460A-9656-5E35671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D341C-F9EC-4A47-8427-8DC6E61A6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2552760" y="365040"/>
            <a:ext cx="3884400" cy="6316920"/>
            <a:chOff x="2552760" y="365040"/>
            <a:chExt cx="3884400" cy="6316920"/>
          </a:xfrm>
        </p:grpSpPr>
        <p:sp>
          <p:nvSpPr>
            <p:cNvPr id="42" name="Round Same Side Corner Rectangle 12"/>
            <p:cNvSpPr/>
            <p:nvPr/>
          </p:nvSpPr>
          <p:spPr>
            <a:xfrm rot="10800000">
              <a:off x="2552760" y="364680"/>
              <a:ext cx="3884400" cy="1193760"/>
            </a:xfrm>
            <a:custGeom>
              <a:avLst/>
              <a:gdLst/>
              <a:ahLst/>
              <a:rect l="l" t="t" r="r" b="b"/>
              <a:pathLst>
                <a:path w="3885178" h="1193825">
                  <a:moveTo>
                    <a:pt x="198975" y="0"/>
                  </a:moveTo>
                  <a:lnTo>
                    <a:pt x="3686203" y="0"/>
                  </a:lnTo>
                  <a:cubicBezTo>
                    <a:pt x="3796094" y="0"/>
                    <a:pt x="3885178" y="89084"/>
                    <a:pt x="3885178" y="198975"/>
                  </a:cubicBezTo>
                  <a:lnTo>
                    <a:pt x="3885178" y="803946"/>
                  </a:lnTo>
                  <a:cubicBezTo>
                    <a:pt x="3885178" y="1019270"/>
                    <a:pt x="3710623" y="1193825"/>
                    <a:pt x="3495299" y="1193825"/>
                  </a:cubicBezTo>
                  <a:lnTo>
                    <a:pt x="389879" y="1193825"/>
                  </a:lnTo>
                  <a:cubicBezTo>
                    <a:pt x="174555" y="1193825"/>
                    <a:pt x="0" y="1019270"/>
                    <a:pt x="0" y="803946"/>
                  </a:cubicBezTo>
                  <a:lnTo>
                    <a:pt x="0" y="198975"/>
                  </a:lnTo>
                  <a:cubicBezTo>
                    <a:pt x="0" y="89084"/>
                    <a:pt x="89084" y="0"/>
                    <a:pt x="198975" y="0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3746880" y="1012680"/>
              <a:ext cx="21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EE GR. 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2942280" y="365040"/>
              <a:ext cx="34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rnard MT Condensed"/>
                  <a:ea typeface="Bernard MT Condensed"/>
                </a:rPr>
                <a:t>IMPORTANT DAT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" name="Picture 6" descr="Screen Shot 2017-10-25 at 3.57.50 AM.png"/>
            <p:cNvPicPr/>
            <p:nvPr/>
          </p:nvPicPr>
          <p:blipFill>
            <a:blip r:embed="rId1"/>
            <a:stretch/>
          </p:blipFill>
          <p:spPr>
            <a:xfrm>
              <a:off x="3376800" y="4241160"/>
              <a:ext cx="2234880" cy="244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Alternate Process 8"/>
          <p:cNvSpPr/>
          <p:nvPr/>
        </p:nvSpPr>
        <p:spPr>
          <a:xfrm>
            <a:off x="2552760" y="1798560"/>
            <a:ext cx="4689360" cy="23130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 Nov. 2017:       Proposal D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-14 Dec 2017:   Proposal 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 April 2018 :         1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-19 April 2018:  Initial Refl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 June 2018 :         2000 word es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9:16Z</dcterms:modified>
  <cp:revision>6</cp:revision>
  <dc:subject/>
  <dc:title>PowerPoint Presentation</dc:title>
</cp:coreProperties>
</file>