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B71-386C-448D-A721-7AB918E3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CA8-B7BC-4284-B209-E08358FF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EF1-079A-43E4-A1D8-8B95A32E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D27-59D8-488D-8F47-5D51193E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920-D956-4BD2-A735-8C099EB6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40D-B745-4DF2-924A-E036ED1F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626-5044-477C-A86C-79F3EC54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AB7-29B7-459E-8A78-F0BBBD08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57E-40ED-47ED-9E93-2D6E5F24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A9D-4A7F-4AE2-A391-B75618B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48D-BBAE-4A73-9E77-D3004BFE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F9F-3377-46A2-AE5B-48E94336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A5EE9-F116-43A6-B84E-8A84C17FA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2552760" y="365040"/>
            <a:ext cx="3884400" cy="6316920"/>
            <a:chOff x="2552760" y="365040"/>
            <a:chExt cx="3884400" cy="6316920"/>
          </a:xfrm>
        </p:grpSpPr>
        <p:sp>
          <p:nvSpPr>
            <p:cNvPr id="42" name="Round Same Side Corner Rectangle 12"/>
            <p:cNvSpPr/>
            <p:nvPr/>
          </p:nvSpPr>
          <p:spPr>
            <a:xfrm rot="10800000">
              <a:off x="2552760" y="364680"/>
              <a:ext cx="3884400" cy="1193760"/>
            </a:xfrm>
            <a:custGeom>
              <a:avLst/>
              <a:gdLst/>
              <a:ahLst/>
              <a:rect l="l" t="t" r="r" b="b"/>
              <a:pathLst>
                <a:path w="3885178" h="1193825">
                  <a:moveTo>
                    <a:pt x="198975" y="0"/>
                  </a:moveTo>
                  <a:lnTo>
                    <a:pt x="3686203" y="0"/>
                  </a:lnTo>
                  <a:cubicBezTo>
                    <a:pt x="3796094" y="0"/>
                    <a:pt x="3885178" y="89084"/>
                    <a:pt x="3885178" y="198975"/>
                  </a:cubicBezTo>
                  <a:lnTo>
                    <a:pt x="3885178" y="803946"/>
                  </a:lnTo>
                  <a:cubicBezTo>
                    <a:pt x="3885178" y="1019270"/>
                    <a:pt x="3710623" y="1193825"/>
                    <a:pt x="3495299" y="1193825"/>
                  </a:cubicBezTo>
                  <a:lnTo>
                    <a:pt x="389879" y="1193825"/>
                  </a:lnTo>
                  <a:cubicBezTo>
                    <a:pt x="174555" y="1193825"/>
                    <a:pt x="0" y="1019270"/>
                    <a:pt x="0" y="803946"/>
                  </a:cubicBezTo>
                  <a:lnTo>
                    <a:pt x="0" y="198975"/>
                  </a:lnTo>
                  <a:cubicBezTo>
                    <a:pt x="0" y="89084"/>
                    <a:pt x="89084" y="0"/>
                    <a:pt x="198975" y="0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Box 7"/>
            <p:cNvSpPr/>
            <p:nvPr/>
          </p:nvSpPr>
          <p:spPr>
            <a:xfrm>
              <a:off x="3746880" y="1012680"/>
              <a:ext cx="21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nard MT Condensed"/>
                  <a:ea typeface="Bernard MT Condensed"/>
                </a:rPr>
                <a:t>EE GR. 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Box 11"/>
            <p:cNvSpPr/>
            <p:nvPr/>
          </p:nvSpPr>
          <p:spPr>
            <a:xfrm>
              <a:off x="2942280" y="365040"/>
              <a:ext cx="3419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ernard MT Condensed"/>
                  <a:ea typeface="Bernard MT Condensed"/>
                </a:rPr>
                <a:t>IMPORTANT DAT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" name="Picture 6" descr="Screen Shot 2017-10-25 at 3.57.50 AM.png"/>
            <p:cNvPicPr/>
            <p:nvPr/>
          </p:nvPicPr>
          <p:blipFill>
            <a:blip r:embed="rId1"/>
            <a:stretch/>
          </p:blipFill>
          <p:spPr>
            <a:xfrm>
              <a:off x="3376800" y="4241160"/>
              <a:ext cx="2234880" cy="244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Alternate Process 8"/>
          <p:cNvSpPr/>
          <p:nvPr/>
        </p:nvSpPr>
        <p:spPr>
          <a:xfrm>
            <a:off x="2552760" y="1798560"/>
            <a:ext cx="4689360" cy="23130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6 Nov. 2017:       Proposal D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-14 Dec 2017:   Proposal  Presen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 April 2018 :         1000 Word ess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-19 April 2018:  Initial Refl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 June 2018 :         2000 word ess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5:53:27Z</dcterms:created>
  <dc:creator>Catherine  de Levay</dc:creator>
  <dc:description/>
  <dc:language>en-US</dc:language>
  <cp:lastModifiedBy>Catherine  de Levay</cp:lastModifiedBy>
  <dcterms:modified xsi:type="dcterms:W3CDTF">2017-10-25T09:59:16Z</dcterms:modified>
  <cp:revision>6</cp:revision>
  <dc:subject/>
  <dc:title>PowerPoint Presentation</dc:title>
</cp:coreProperties>
</file>