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71D-0DE9-47A8-B0F9-5CF55C46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910-3A6F-4756-98D9-A0F5075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BAD-5399-4FED-9ACE-7881F003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490-7714-4F0C-B4C0-8C5CE94D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E71-E608-4F04-9A91-A51F7403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A35-DCF5-4804-AE11-07DBC51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C1A-A87E-4F86-9746-47FDA993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F92-5B66-40B8-AC07-51B002E9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345-5289-4788-98A9-4EEBEBD5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E3A-FD43-44E5-9CC3-CE4DC12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D45-572E-4F83-8063-2C9BC8B0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366-4188-4336-B4DE-D82B5F7A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B3D55-67CC-4373-A4BC-1B0A9DFB0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2552760" y="365040"/>
            <a:ext cx="3884400" cy="6316920"/>
            <a:chOff x="2552760" y="365040"/>
            <a:chExt cx="3884400" cy="6316920"/>
          </a:xfrm>
        </p:grpSpPr>
        <p:sp>
          <p:nvSpPr>
            <p:cNvPr id="42" name="Round Same Side Corner Rectangle 12"/>
            <p:cNvSpPr/>
            <p:nvPr/>
          </p:nvSpPr>
          <p:spPr>
            <a:xfrm rot="10800000">
              <a:off x="2552760" y="364680"/>
              <a:ext cx="3884400" cy="1193760"/>
            </a:xfrm>
            <a:custGeom>
              <a:avLst/>
              <a:gdLst/>
              <a:ahLst/>
              <a:rect l="l" t="t" r="r" b="b"/>
              <a:pathLst>
                <a:path w="3885178" h="1193825">
                  <a:moveTo>
                    <a:pt x="198975" y="0"/>
                  </a:moveTo>
                  <a:lnTo>
                    <a:pt x="3686203" y="0"/>
                  </a:lnTo>
                  <a:cubicBezTo>
                    <a:pt x="3796094" y="0"/>
                    <a:pt x="3885178" y="89084"/>
                    <a:pt x="3885178" y="198975"/>
                  </a:cubicBezTo>
                  <a:lnTo>
                    <a:pt x="3885178" y="803946"/>
                  </a:lnTo>
                  <a:cubicBezTo>
                    <a:pt x="3885178" y="1019270"/>
                    <a:pt x="3710623" y="1193825"/>
                    <a:pt x="3495299" y="1193825"/>
                  </a:cubicBezTo>
                  <a:lnTo>
                    <a:pt x="389879" y="1193825"/>
                  </a:lnTo>
                  <a:cubicBezTo>
                    <a:pt x="174555" y="1193825"/>
                    <a:pt x="0" y="1019270"/>
                    <a:pt x="0" y="803946"/>
                  </a:cubicBezTo>
                  <a:lnTo>
                    <a:pt x="0" y="198975"/>
                  </a:lnTo>
                  <a:cubicBezTo>
                    <a:pt x="0" y="89084"/>
                    <a:pt x="89084" y="0"/>
                    <a:pt x="198975" y="0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7"/>
            <p:cNvSpPr/>
            <p:nvPr/>
          </p:nvSpPr>
          <p:spPr>
            <a:xfrm>
              <a:off x="3746880" y="1012680"/>
              <a:ext cx="21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nard MT Condensed"/>
                  <a:ea typeface="Bernard MT Condensed"/>
                </a:rPr>
                <a:t>EE GR. 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Box 11"/>
            <p:cNvSpPr/>
            <p:nvPr/>
          </p:nvSpPr>
          <p:spPr>
            <a:xfrm>
              <a:off x="2942280" y="365040"/>
              <a:ext cx="3419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ernard MT Condensed"/>
                  <a:ea typeface="Bernard MT Condensed"/>
                </a:rPr>
                <a:t>IMPORTANT DAT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" name="Picture 6" descr="Screen Shot 2017-10-25 at 3.57.50 AM.png"/>
            <p:cNvPicPr/>
            <p:nvPr/>
          </p:nvPicPr>
          <p:blipFill>
            <a:blip r:embed="rId1"/>
            <a:stretch/>
          </p:blipFill>
          <p:spPr>
            <a:xfrm>
              <a:off x="3376800" y="4241160"/>
              <a:ext cx="2234880" cy="244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Alternate Process 8"/>
          <p:cNvSpPr/>
          <p:nvPr/>
        </p:nvSpPr>
        <p:spPr>
          <a:xfrm>
            <a:off x="2552760" y="1798560"/>
            <a:ext cx="4689360" cy="23130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6 Nov. 2017:       Proposal D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-14 Dec 2017:   Proposal  Presen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 April 2018 :         1000 Word ess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-19 April 2018:  Initial Refl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 June 2018 :         2000 word ess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5:53:27Z</dcterms:created>
  <dc:creator>Catherine  de Levay</dc:creator>
  <dc:description/>
  <dc:language>en-US</dc:language>
  <cp:lastModifiedBy>Catherine  de Levay</cp:lastModifiedBy>
  <dcterms:modified xsi:type="dcterms:W3CDTF">2017-10-25T09:59:16Z</dcterms:modified>
  <cp:revision>6</cp:revision>
  <dc:subject/>
  <dc:title>PowerPoint Presentation</dc:title>
</cp:coreProperties>
</file>