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BB18D-A2D8-47AF-9A26-5B229046A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132E8-664C-42D3-947A-078AE5948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02C2E-31F7-417D-AE04-0C9F6EC01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B4BE4-753E-471B-97E9-A8DB4510B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31D71-564E-4D9E-BFF8-81D09B16D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EE638-8307-475F-83F1-1A0671ECA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9ABDD-7E4E-4C3D-ABEA-B4C83EF49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6DEB8-C146-4746-ABDE-ACB750131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645FD-D087-4808-9B6F-6FDD8A708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5AF79-CA70-4221-9FE0-BF6468EDF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B05AA-A525-4277-B9B8-98BEAB7F1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E4082-251C-4C7B-A742-FE6889317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DE0ECFD-5D4C-4AF4-8F80-4D68DC2741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1"/>
          <p:cNvGrpSpPr/>
          <p:nvPr/>
        </p:nvGrpSpPr>
        <p:grpSpPr>
          <a:xfrm>
            <a:off x="2552760" y="365040"/>
            <a:ext cx="3884400" cy="6316920"/>
            <a:chOff x="2552760" y="365040"/>
            <a:chExt cx="3884400" cy="6316920"/>
          </a:xfrm>
        </p:grpSpPr>
        <p:sp>
          <p:nvSpPr>
            <p:cNvPr id="42" name="Round Same Side Corner Rectangle 12"/>
            <p:cNvSpPr/>
            <p:nvPr/>
          </p:nvSpPr>
          <p:spPr>
            <a:xfrm rot="10800000">
              <a:off x="2552760" y="364680"/>
              <a:ext cx="3884400" cy="1193760"/>
            </a:xfrm>
            <a:custGeom>
              <a:avLst/>
              <a:gdLst/>
              <a:ahLst/>
              <a:rect l="l" t="t" r="r" b="b"/>
              <a:pathLst>
                <a:path w="3885178" h="1193825">
                  <a:moveTo>
                    <a:pt x="198975" y="0"/>
                  </a:moveTo>
                  <a:lnTo>
                    <a:pt x="3686203" y="0"/>
                  </a:lnTo>
                  <a:cubicBezTo>
                    <a:pt x="3796094" y="0"/>
                    <a:pt x="3885178" y="89084"/>
                    <a:pt x="3885178" y="198975"/>
                  </a:cubicBezTo>
                  <a:lnTo>
                    <a:pt x="3885178" y="803946"/>
                  </a:lnTo>
                  <a:cubicBezTo>
                    <a:pt x="3885178" y="1019270"/>
                    <a:pt x="3710623" y="1193825"/>
                    <a:pt x="3495299" y="1193825"/>
                  </a:cubicBezTo>
                  <a:lnTo>
                    <a:pt x="389879" y="1193825"/>
                  </a:lnTo>
                  <a:cubicBezTo>
                    <a:pt x="174555" y="1193825"/>
                    <a:pt x="0" y="1019270"/>
                    <a:pt x="0" y="803946"/>
                  </a:cubicBezTo>
                  <a:lnTo>
                    <a:pt x="0" y="198975"/>
                  </a:lnTo>
                  <a:cubicBezTo>
                    <a:pt x="0" y="89084"/>
                    <a:pt x="89084" y="0"/>
                    <a:pt x="198975" y="0"/>
                  </a:cubicBezTo>
                  <a:close/>
                </a:path>
              </a:pathLst>
            </a:custGeom>
            <a:solidFill>
              <a:srgbClr val="008080"/>
            </a:solidFill>
            <a:ln w="9360">
              <a:solidFill>
                <a:srgbClr val="4a7eb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TextBox 7"/>
            <p:cNvSpPr/>
            <p:nvPr/>
          </p:nvSpPr>
          <p:spPr>
            <a:xfrm>
              <a:off x="3746880" y="1012680"/>
              <a:ext cx="210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ernard MT Condensed"/>
                  <a:ea typeface="Bernard MT Condensed"/>
                </a:rPr>
                <a:t>EE GR. 11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TextBox 11"/>
            <p:cNvSpPr/>
            <p:nvPr/>
          </p:nvSpPr>
          <p:spPr>
            <a:xfrm>
              <a:off x="2942280" y="365040"/>
              <a:ext cx="341928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Bernard MT Condensed"/>
                  <a:ea typeface="Bernard MT Condensed"/>
                </a:rPr>
                <a:t>IMPORTANT DATES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45" name="Picture 6" descr="Screen Shot 2017-10-25 at 3.57.50 AM.png"/>
            <p:cNvPicPr/>
            <p:nvPr/>
          </p:nvPicPr>
          <p:blipFill>
            <a:blip r:embed="rId1"/>
            <a:stretch/>
          </p:blipFill>
          <p:spPr>
            <a:xfrm>
              <a:off x="3376800" y="4241160"/>
              <a:ext cx="2234880" cy="2440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6" name="Alternate Process 8"/>
          <p:cNvSpPr/>
          <p:nvPr/>
        </p:nvSpPr>
        <p:spPr>
          <a:xfrm>
            <a:off x="2552760" y="1798560"/>
            <a:ext cx="4689360" cy="2313000"/>
          </a:xfrm>
          <a:prstGeom prst="flowChartAlternateProcess">
            <a:avLst/>
          </a:prstGeom>
          <a:solidFill>
            <a:srgbClr val="000080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26 Nov. 2017:       Proposal Du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0-14 Dec 2017:   Proposal  Presenta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8 April 2018 :         1000 Word essa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5-19 April 2018:  Initial Reflec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3 June 2018 :         2000 word essa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0-25T05:53:27Z</dcterms:created>
  <dc:creator>Catherine  de Levay</dc:creator>
  <dc:description/>
  <dc:language>en-US</dc:language>
  <cp:lastModifiedBy>Catherine  de Levay</cp:lastModifiedBy>
  <dcterms:modified xsi:type="dcterms:W3CDTF">2017-10-25T09:59:16Z</dcterms:modified>
  <cp:revision>6</cp:revision>
  <dc:subject/>
  <dc:title>PowerPoint Presentation</dc:title>
</cp:coreProperties>
</file>